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5486400" cy="41148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3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3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3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5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6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7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7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7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7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48974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65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2418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08112-16F2-4C46-A1C8-9556BFE65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71D62-08E8-48C6-AC09-FD9A530AD7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00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59A1D-F6C9-498C-9ED8-40C7A66D5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B6553-97EB-4692-A325-14CF1226D9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7E434-6179-4036-80B9-94A61E794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371600" y="763560"/>
            <a:ext cx="490068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7BFDA-228C-412B-ABA9-BD743120FE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49021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9FE3-36F8-4195-BA50-E1BF721D52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BAE6-3FE6-40A8-9A1E-B9C953F317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D6FEA-2248-4CC3-A569-37910889D6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B8E35-1CE0-4CD4-8658-B0B641BF7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ED3F9-BFA1-4FA3-B357-92110FE73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6221E-0CB1-4FB2-89DE-82F26E385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371600" y="763560"/>
            <a:ext cx="49039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8"/>
          <p:cNvSpPr/>
          <p:nvPr/>
        </p:nvSpPr>
        <p:spPr>
          <a:xfrm>
            <a:off x="4398840" y="9555120"/>
            <a:ext cx="324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EF664-F0D9-45D5-9EC1-39C4BB165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311120" y="763560"/>
            <a:ext cx="5024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0879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128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70120" y="84276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6128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570120" y="2229840"/>
            <a:ext cx="153180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440" y="-46440"/>
            <a:ext cx="475128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90720" y="222984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90720" y="842760"/>
            <a:ext cx="232164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2229840"/>
            <a:ext cx="4757760" cy="12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3673440"/>
            <a:ext cx="4479840" cy="26532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79440" y="3679920"/>
            <a:ext cx="2176560" cy="258840"/>
          </a:xfrm>
          <a:prstGeom prst="roundRect">
            <a:avLst>
              <a:gd name="adj" fmla="val 25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ONE LAPTOP PER CHI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9440" y="-46440"/>
            <a:ext cx="47512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8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2440" y="842760"/>
            <a:ext cx="475776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9684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9368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296640" y="3940200"/>
            <a:ext cx="27608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is works are licensed under a Creative Commons Attribution 2.5 License.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4325760" y="3649680"/>
            <a:ext cx="114300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9440" y="1609200"/>
            <a:ext cx="4819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One Laptop per Child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0" y="2895480"/>
            <a:ext cx="5486400" cy="7621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Laptop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September 18 , 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568440"/>
            <a:ext cx="548640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20760" y="1981080"/>
            <a:ext cx="3076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Arial"/>
              </a:rPr>
              <a:t>One Laptop pe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28600" y="969840"/>
            <a:ext cx="5164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3332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Futu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utomatic management of suspend/resu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Aggressive CPU suspe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96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 Sans"/>
              </a:rPr>
              <a:t>Suspend measurements are in the 2 watt r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080" y="843120"/>
            <a:ext cx="4762440" cy="31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loyment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we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is the climate and geography of deployment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s  of closest larg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natural resources are avail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many schools, how many kids, and how many kids per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0" y="914400"/>
            <a:ext cx="5572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How many of those schools don't have a power grid or have unreliable pow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1191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3093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pected laptop usage.   How often will you need to recharge the batter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79440" y="3240"/>
            <a:ext cx="47559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elping O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080" y="2880"/>
            <a:ext cx="47559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lleng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842760"/>
            <a:ext cx="4762440" cy="25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lying power can be a large and difficult challenge in a deployment.  Even in areas with a power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ck of an established grid increased the difficulty significan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recipe solutions. Each site is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How Much Power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1148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 Primary 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ing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 draw of 17 Wat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char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ss than 1 watt in 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g 4 – 7 watts while running w/ peaks up to 9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Charging.  How Long?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7642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stest.  Laptop o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power used to charge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hour 46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cess power used to charge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out 2 and half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8080"/>
                </a:solidFill>
                <a:latin typeface="Arial"/>
              </a:rPr>
              <a:t>Various solar panels at MAX output </a:t>
            </a:r>
            <a:endParaRPr b="1" lang="en-US" sz="20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W 5 hours 15 min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W 3 hours 4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W 2 hours 40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1120" y="200160"/>
            <a:ext cx="466416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</a:t>
            </a: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 Power Sources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760" y="777600"/>
            <a:ext cx="4937040" cy="26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/7/10 Watt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rox 30 Wat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Batteries in 2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Ah LA battery.  Will charge 2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za battery needs recharging af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8080"/>
                </a:solidFill>
                <a:latin typeface="Arial"/>
              </a:rPr>
              <a:t>Alternative Power Sources</a:t>
            </a:r>
            <a:endParaRPr b="1" lang="en-US" sz="26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needs 2 hours of cra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really viable until Ge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ss Ro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w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, Wind, Pedal,Tread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9440" y="2880"/>
            <a:ext cx="47577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Multi-Battery Charger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843120"/>
            <a:ext cx="4764240" cy="25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rges 15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00 Watt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0 Watt DC option (10 – 28 Volt inpu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 Batteries in 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1191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 connection to 60W solar blanket(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125280"/>
            <a:ext cx="475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Arial"/>
              </a:rPr>
              <a:t>Power Management</a:t>
            </a:r>
            <a:endParaRPr b="1" lang="en-US" sz="2800" spc="-1" strike="noStrike">
              <a:solidFill>
                <a:srgbClr val="ff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7642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26676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dware ready for suspend/re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stable builds have support for sleep on lid close or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bout 4 hours of battery life during norma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4-16 hours of battery life in sleep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28600">
              <a:spcBef>
                <a:spcPts val="3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2.x Has New “Extreme” power savings mode + additional power savings in sleep for non-mesh. (40+ hours of life in sleep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amrbridge, MA
April 23-27, 2007
</dc:description>
  <dc:language>en-US</dc:language>
  <cp:lastModifiedBy> </cp:lastModifiedBy>
  <dcterms:modified xsi:type="dcterms:W3CDTF">2008-09-18T17:55:53Z</dcterms:modified>
  <cp:revision>1</cp:revision>
  <dc:subject/>
  <dc:title>One Laptop per Child</dc:title>
</cp:coreProperties>
</file>